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1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1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1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4F30CA-C939-47F6-97C2-274B3F862A9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CC2C79-8845-4614-A7A9-32F0A76DD75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9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0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1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4" descr="title_image"/>
          <p:cNvPicPr/>
          <p:nvPr/>
        </p:nvPicPr>
        <p:blipFill>
          <a:blip r:embed="rId2"/>
          <a:stretch/>
        </p:blipFill>
        <p:spPr>
          <a:xfrm>
            <a:off x="905040" y="-160200"/>
            <a:ext cx="8238960" cy="40971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ppt_p1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CSIRO_logo_ppt"/>
          <p:cNvPicPr/>
          <p:nvPr/>
        </p:nvPicPr>
        <p:blipFill>
          <a:blip r:embed="rId4"/>
          <a:stretch/>
        </p:blipFill>
        <p:spPr>
          <a:xfrm>
            <a:off x="8001000" y="5715000"/>
            <a:ext cx="687240" cy="82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2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3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4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5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6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7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8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11280" y="476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06560" y="3968280"/>
            <a:ext cx="8137440" cy="96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-VLBI report to EXPReS board </a:t>
            </a:r>
            <a:br>
              <a:rPr sz="2600"/>
            </a:b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CSIRO &amp; AA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86920" y="4652640"/>
            <a:ext cx="648036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91" name="Picture 5" descr="new ska edited apr 06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6"/>
          <p:cNvSpPr/>
          <p:nvPr/>
        </p:nvSpPr>
        <p:spPr>
          <a:xfrm>
            <a:off x="1244160" y="55357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99cc"/>
                </a:solidFill>
                <a:latin typeface="Arial"/>
              </a:rPr>
              <a:t>CSIRO Australia Telescope National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99cc"/>
                </a:solidFill>
                <a:latin typeface="Arial"/>
              </a:rPr>
              <a:t>Update to EXPReS Board Meeting, Jan 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PR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CSIRO &amp; AA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ormal milestones achieved in 2007.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mo in Octo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Continue to work with EXPReS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chnology developments e,g,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ternational demos e.g IYA in Ja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EXPReS acted as catalyst for e-VLBI developments in Australia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VLBI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Australia and Asia-Pacific e-VLBI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Local software e-VLBI correlators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winburne DiFX software corre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ted to Parkes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onstrated to 1 Gbps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Asia-Pacific demonstration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–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 June 2008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relation i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ATNF antennas + Kashima +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12 Mbps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Correlator at Curtin cluster in Perth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l disk VLBI correlated at Cu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twork connectivity - AA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147680" y="1445760"/>
            <a:ext cx="719784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E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-VLBI connectivity provided by AARNe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 x 1 GBps paid connections to 3 ATNF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 6 x 622 Mbps additional e-VLBI connections by AA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xible allocation of extra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ving to dynamic allocation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ternational light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Connectivity at Hobart ( U Tasmania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Gbps to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8 Mbps across strait to mainl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2 x 155 Mbps li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Lesson learned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** Work closely with your NREN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ould not achieve eVLBI without this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VLBI plans in 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20240" y="1209240"/>
            <a:ext cx="74343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E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-VLBI demo to Curtin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1 March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onstrate to AARNet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n for  3  x 1 Gbps from ATNF tele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178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6 x 512 Mbps on 622 Mbps circu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 128 Mbps to Ho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 the 10 Gbps AARNet link to and within Pe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560" indent="-1785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Plans for more international demos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Z new 12 m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razil collabo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uthern hemisphere e-VLBI de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560" indent="-1785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10 Gbps connectivity to telescopes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pensive end-point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st link from AA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K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Australian SKA Pathfinder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bre build to s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400 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ational by 2011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Strong e-VLBI linkage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BI w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k with A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BI w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k complementary to A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VLBI critical especially for transient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8:54:29Z</dcterms:created>
  <dc:creator>CSIRO</dc:creator>
  <dc:description/>
  <dc:language>en-US</dc:language>
  <cp:lastModifiedBy>Tasso Tzioumis</cp:lastModifiedBy>
  <dcterms:modified xsi:type="dcterms:W3CDTF">2009-01-21T13:35:28Z</dcterms:modified>
  <cp:revision>155</cp:revision>
  <dc:subject/>
  <dc:title>Slide 1</dc:title>
</cp:coreProperties>
</file>